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8F3C-A7A4-4A9B-978D-EE0BFA7C8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C443-1A13-44B0-B3CC-B04ED16A13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three analysts p.18 (Drummon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re are different perspectives it is useful to view costs and consequences as building blocks, which can be assembled in the different eval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F988-E603-4BF4-A32D-160283A597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8A5B-8A85-469E-8D3A-5A2C2B95AC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 * relevant Unit p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704F-7F4D-412B-9289-2AD497C430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BECC-276E-469E-9E74-AD2ED7C894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F1B-664D-4587-A3E2-9B6A046B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2C2-9A52-4E4C-8056-313244D5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F67-4BD1-4146-A9FF-AE438BA7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877-2014-4B1B-A183-BA588AF3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E64-DAC8-4B99-B01C-33E4C25A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0B3-1B84-46D2-ACA8-D5BB6D9F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ABE-51FE-4E13-B04E-A7E507A7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D3F-4BC2-4C24-A797-3044D0EB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274-4A61-4B81-A4D1-6C2004C1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B8D8-F416-4D62-8C71-881A3CDA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0EBC-0FCC-404D-BC6D-AFED8F54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0976-C9E9-45A2-A587-922D8367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F2FD-33FA-4E47-961D-EBE9CE99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C969-3597-4EC2-86CD-6A73E925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1186-4CA3-4565-B1F9-D85A6262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7330-24AB-413C-A79C-AC05FFD7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C91B-5A53-4BAE-9571-6A1A4EEC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D4A9-CE81-4614-8FA6-79F13059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161-F752-4F34-A3B0-4E726F22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B8C8-6B65-4B03-A23F-9CDC8797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8AB1-7C0F-4655-A128-951936B3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5F32-ECC4-488A-BC3E-FB6DB5B8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E33-04D5-4EC2-9078-5A9F1086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0E2-C1DB-4BAE-9A97-695AB52D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A38F-1DA1-4DCD-B825-B69E9FE3224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CE2A-7285-45DE-BCF3-60DEF1259F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4E4C-12EF-4563-B5B0-48F5A510CC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-Benefi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4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Object 2"/>
          <p:cNvGraphicFramePr/>
          <p:nvPr/>
        </p:nvGraphicFramePr>
        <p:xfrm>
          <a:off x="0" y="1600200"/>
          <a:ext cx="9144000" cy="36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 6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2693880" y="0"/>
          <a:ext cx="4237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0"/>
                    <a:ext cx="423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-19080" y="12600"/>
            <a:ext cx="9010800" cy="1339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depends 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lem tackl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itutional fra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al measurement challen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erspective the analyst takes on the role of the economic evalu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7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0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1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74040" cy="1341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HO-CHOICE and GCE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55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eague Tab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95280" y="1143000"/>
          <a:ext cx="64771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37846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      c2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      b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      c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      c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5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      a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3"/>
          <p:cNvSpPr/>
          <p:nvPr/>
        </p:nvSpPr>
        <p:spPr>
          <a:xfrm>
            <a:off x="838080" y="990720"/>
            <a:ext cx="7315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190512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190512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905120" y="434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190512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1905120" y="6095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go to know mo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3807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urnals With an EE Foc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ropean 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st Effectiveness and Resource Allocation (online journa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m J, Leung G, Woo P, and Goldie S (2004).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ost-effectiveness of organized versus opportunistic cervical cytology screening in Hong Ko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. Journal of Public Health, 26(2):130–13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vidence on the cost-effectiveness of alternative cervical cancer screening strateg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577360" cy="1219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al persp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BE71-2E38-44C3-B2A2-612E46EE77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369360" cy="1224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109440" y="231840"/>
            <a:ext cx="8577360" cy="1218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quid-based cytology dominates conventional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shold from the US: $100 000 per YLS is quite comm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HK no clear threshold b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5 000/YLS, the optimal screening frequency with liquid-based cytology would be every 3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0 000 per YLS, the optimal screening frequency would be every 4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constant dollar value (US$ 2000), to deflate all the co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ture costs and life years were discounted at an annual rate of 3 per c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46160" y="281160"/>
            <a:ext cx="8839080" cy="12128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sitivity and specificity of screening strateg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per age limit: no upper age limit, 55 and 65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more worthwhile to implement an organized rather than opportunistic strategy for the screening of cervical cancer, using liquid-based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onomic evaluation is the comparison of costs and consequences to determine the most efficient allocation of scarce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everal challenges: methodolog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conomic evaluation will be increasingly used, especially in times of limited public health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4" descr=""/>
          <p:cNvPicPr/>
          <p:nvPr/>
        </p:nvPicPr>
        <p:blipFill>
          <a:blip r:embed="rId1"/>
          <a:stretch/>
        </p:blipFill>
        <p:spPr>
          <a:xfrm>
            <a:off x="-115920" y="171360"/>
            <a:ext cx="90345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2"/>
          <p:cNvGraphicFramePr/>
          <p:nvPr/>
        </p:nvGraphicFramePr>
        <p:xfrm>
          <a:off x="609480" y="1371600"/>
          <a:ext cx="792504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371600"/>
                    <a:ext cx="7925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2"/>
          <p:cNvGraphicFramePr/>
          <p:nvPr/>
        </p:nvGraphicFramePr>
        <p:xfrm>
          <a:off x="609480" y="928800"/>
          <a:ext cx="8001000" cy="55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28800"/>
                    <a:ext cx="80010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A/CUA useful to allocate a fixed budget to maximize a selected effectiveness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o so we ne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nd comparable data on all altern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periodic budget allocatio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ifference from CEA/CU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A/CUA gives the price to achieve an incremental goal, but not whether a goal is worth achieving. Hence, invoke some external criterion of value: League tables and thresholds (arbitr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maker implicitly or explicitly do the monetary 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455040" cy="1224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both do involve monetary valuations, are they equival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osophical difference: ‘decision-making philosophy versus welfare economics and consumer sovereign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BA has a broader scope: transportation and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roduction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llocative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utility’, ‘reassurance value’ and non-health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A/CUA are client-focused (patients), not possible to directly include externali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approach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an capital approa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eal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8T08:16:56Z</dcterms:modified>
  <cp:revision>557</cp:revision>
  <dc:subject/>
  <dc:title>Slide 1</dc:title>
</cp:coreProperties>
</file>